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77D-470A-4CA5-86D6-890E41E4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83CE-0F55-4005-BE24-27CFD893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104-F4AE-419E-A057-3CACE2BA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CC3-27A9-48BC-87CE-5312EFC1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94F-D423-47BE-BFFF-74F0C43E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7D3A-1960-45A7-AA5A-C2552333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C97-3015-4CBA-99FB-63109D49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CDF-A28C-4D3A-81D1-71888B08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666-960E-4BBB-B1E2-3B4F77C5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C5A-7B5E-4C83-8235-7C021131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5C87-0767-4C05-9349-1D566B7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3D4-5C79-4CAD-ABD5-FAE3F7D1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C91B-4A3A-41B9-893C-DCB84417A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0948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GIN OF THE ORBITAL STRUCTURE  OF THE KUIPER BE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W MODEL &amp; OPEN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2004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66ff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Morbidelli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OCA, Nice, Fr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86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ollisional way: doubtful (see Charnoz’s tal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1773360"/>
            <a:ext cx="0" cy="2808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581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1773360"/>
            <a:ext cx="0" cy="2808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03640" y="4581360"/>
            <a:ext cx="302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6920" y="2276640"/>
            <a:ext cx="1368720" cy="2304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95640" y="2997360"/>
            <a:ext cx="865080" cy="1512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03280" y="2636640"/>
            <a:ext cx="79236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4869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4797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62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62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og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450864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4508640"/>
            <a:ext cx="720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fr-FR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372360" y="4005360"/>
            <a:ext cx="0" cy="57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052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Ero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1052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Non-Eros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THE `NICE’ MODEL OF SOLAR SYSTEM EVOLUTION: ORIGIN OF THE LATE HEAVY BOMBARD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838080"/>
            <a:ext cx="4419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Times New Roman"/>
              </a:rPr>
              <a:t>Gomes et al., Nature,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xplains al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(i) Current orbital architecture of the giant planets (Tsiganis et al.,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648320" cy="4647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038480" y="3429000"/>
            <a:ext cx="5105520" cy="3429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486400"/>
            <a:ext cx="3962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(ii) Existence and properties of Jovian Trojans (Morbidelli et al., 20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72400" y="3429000"/>
            <a:ext cx="0" cy="3048120"/>
          </a:xfrm>
          <a:prstGeom prst="line">
            <a:avLst/>
          </a:prstGeom>
          <a:ln w="3168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:2 MM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1666800"/>
            <a:ext cx="6838920" cy="519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The Kuiper belt can be filled up to the 1:2 MMR, and an extended SD is formed, when Neptune is eccen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219320"/>
            <a:ext cx="3865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Neptun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0.2, fixed@30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The Kuiper belt can be filled up to the 1:2 MMR, and an extended SD is formed, when Neptune is eccentr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219320"/>
            <a:ext cx="3865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fr-FR" sz="2400" spc="-1" strike="noStrike" baseline="-25000">
                <a:solidFill>
                  <a:srgbClr val="000000"/>
                </a:solidFill>
                <a:latin typeface="Times New Roman"/>
              </a:rPr>
              <a:t>Neptune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=0.2, fixed@30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5240" y="1666800"/>
            <a:ext cx="68389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7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We did a series of new simulations where we forced the planets to behave as in the `Nice’ model: Large e, damping, mig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We reproduce the (a,e) distribution fairly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533520"/>
            <a:ext cx="2210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77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53352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876240"/>
            <a:ext cx="8238960" cy="5981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5740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=30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286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q=30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80988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LB95 stab. li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3886200"/>
            <a:ext cx="1143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LB95 stab. li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314880" y="-685800"/>
            <a:ext cx="5829120" cy="7543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533520"/>
            <a:ext cx="32004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We also reproduce the observed inclination distribution, although we have some deficit of large-i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KS test says distributions match at 50% confidenc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971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ser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486400" y="2133720"/>
            <a:ext cx="533520" cy="838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2133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model + bi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638320" y="1828800"/>
            <a:ext cx="685800" cy="4572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33520" y="790560"/>
            <a:ext cx="8286480" cy="6067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We explain the correlations with the physical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943600" y="914040"/>
            <a:ext cx="0" cy="53341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67600" cy="5334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304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nd the orbital distribution inside the mean motion reson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1066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3:2 reson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18288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 total, ~30 objects out of simulated 30,000 are captured in the classical belt. Given that the initial mass of the planetesimal disk is ~35 Earth masses in the Nice model, we account for about 0.03-0.05 Earth masses in the Kuiper bel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962520"/>
            <a:ext cx="8153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About right, provided that collisional erosion was not important. This implies that the size distribution was similar to the current one, but scaled `up’ by a factor ~ 1,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1,000 Plutos in the primordial planetesimal dis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049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MASS DEFIC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18680" cy="5335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898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Times New Roman"/>
              </a:rPr>
              <a:t>Coexistence of scattered disk, extended SD and Kuiper belt;              truncation of the Kuiper belt at the 1:2 resonance lo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156360"/>
            <a:ext cx="9142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rujillo et al. (2001): The Scattered Disk and the Kuiper belt constitute roughly equal popu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7391520" y="2057400"/>
            <a:ext cx="761760" cy="76320"/>
          </a:xfrm>
          <a:prstGeom prst="line">
            <a:avLst/>
          </a:prstGeom>
          <a:ln w="381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1532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99"/>
                </a:solidFill>
                <a:latin typeface="Times New Roman"/>
              </a:rPr>
              <a:t>Sed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2000" y="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Cold population: implanted or loca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4949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55166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If local: easier to keep cold in i; easier to explain the difference in physical properties with the implanted, hot popul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BUT: mass deficit problem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00000" y="1890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A possible solution (specul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81000"/>
            <a:ext cx="914400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Maybe the size distribution was strongly dependent on the distance (not yet shown by coagulation model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Non-erosive (~1,000 Plutos) in the 15-30 AU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Erosive (D&lt;1,000km) in the 30-45 AU reg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`Failed’ (D&lt;undetectable) beyond 45 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VE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uring the waiting time for the LHB(650My) collisional erosion of the disk beyond 30 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HB: dynamical disruption of the massive disk inside 30 AU and implantation of hot/resonant/scattered pop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he 40-45 AU population remains local, partially excited in e, and with low mas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308720" y="1700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08720" y="2205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1915920"/>
            <a:ext cx="144720" cy="144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308720" y="234900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308720" y="2924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2852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34290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7308360" y="2491920"/>
            <a:ext cx="287640" cy="36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7308360" y="3213000"/>
            <a:ext cx="14292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7308360" y="1844280"/>
            <a:ext cx="142920" cy="7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3360" cy="5338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oexistence of resonant and classical population;                       weird (a,e) distribution of the classical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ujillo et al. (2001): The resonant population constitutes ~10% of the classical popul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335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04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oexistence of `hot’ and `cold’ classical populations (Brown, 2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410080"/>
            <a:ext cx="6096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847880"/>
            <a:ext cx="7010280" cy="501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PHYSICAL DIFFERENCES BETWEEN THE HOT AND COLD POPULATIONS OF THE CLASSICAL BELT:                                I) THE COLOR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648320"/>
            <a:ext cx="609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5181480"/>
            <a:ext cx="4038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2209680"/>
            <a:ext cx="0" cy="38102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71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ujillo and Brown (2002), Tegler and Romanishin (2000), Doressoundiram et al. (20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PHYSICAL DIFFERENCES BETWEEN THE HOT AND COLD POPULATIONS OF THE CLASSICAL BELT:                                II) THE SIZE DISTRIB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1905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vison and Stern (20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481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of the biggest objects (Pluto, Quaoar, Ixion, Varuna, Chaos) are in the HOT 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199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bodies with H&lt;4 have i&gt;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have 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m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19.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6019920" cy="441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162920" y="1447920"/>
            <a:ext cx="0" cy="388620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741920" y="1066680"/>
            <a:ext cx="4402080" cy="5791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MASS DEFIC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0 Earth masses are expected to exist in the primordial 30-50 AU region because of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666880"/>
            <a:ext cx="464832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Times New Roman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rapolation of the surface density of solids incorporated in the giant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buClr>
                <a:srgbClr val="ffffff"/>
              </a:buClr>
              <a:buFont typeface="Times New Roman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cessity to grow the KBOs in a reasonable time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Stern, 1996; Stern and Colwell, 1999; Kenyon and Luu 1998, 1999; Weidenshilling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019920"/>
            <a:ext cx="4648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current mass is estimated to be 0.01-0.1 M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30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he mass depletion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762120"/>
            <a:ext cx="7924680" cy="0"/>
          </a:xfrm>
          <a:prstGeom prst="line">
            <a:avLst/>
          </a:prstGeom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4479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hat depleted the mass of the cold classical population in the 40-50 AU reg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wo possible way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27672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al way, by exciting the eccentricity of most of the objects up to Neptune-crossing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isional grinding and evacuation of dust by radiation press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6553440" cy="524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Dynamical way: impossible! Neptune would migrate too f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9916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Dynamical depletion and Neptune migration: Gomes, Morbidelli, Levison (20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25 Earth mass disk in 10-50 AU and one Earth mass embr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434340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ff"/>
                </a:solidFill>
                <a:latin typeface="Times New Roman"/>
              </a:rPr>
              <a:t>1M</a:t>
            </a:r>
            <a:r>
              <a:rPr b="1" lang="fr-FR" sz="2400" spc="-1" strike="noStrike" baseline="-25000">
                <a:solidFill>
                  <a:srgbClr val="0099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4:27:02Z</dcterms:created>
  <dc:creator>morby</dc:creator>
  <dc:description/>
  <dc:language>en-US</dc:language>
  <cp:lastModifiedBy>Alessandro MORBIDELLI</cp:lastModifiedBy>
  <dcterms:modified xsi:type="dcterms:W3CDTF">2007-01-05T10:35:07Z</dcterms:modified>
  <cp:revision>28</cp:revision>
  <dc:subject/>
  <dc:title>Présentation PowerPoint</dc:title>
</cp:coreProperties>
</file>