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gif" ContentType="image/gif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FBC7-7D99-45A2-BA83-B3734ABED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6B72-E72F-4E83-9E8B-37C80D5C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FCAE-A586-44A7-AF45-95794F9A1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4098-8F37-4E9D-B516-A335D163B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864A-4182-40AD-832F-B374D5F0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D896-F868-44FA-BEA7-066DB0D2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F231-E84F-4DCE-85C4-2A6C115E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48E1-BC1B-4454-93F1-ABB6D180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C4CA-84B2-45CA-B504-FDDBA56E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5C00-B4FA-4C26-B194-3C235300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4667-89D8-434B-BE57-064155AC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9F8E-257F-4121-8DC5-4F4BB106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e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1031-3B25-4D3F-B646-55AA32C77FE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e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Dimension and detection of TNO atmospheres with stellar occultations : physical constraints and perspectives</a:t>
            </a:r>
            <a:br>
              <a:rPr sz="4000"/>
            </a:b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Workshop Third Zone, January 11-12, 2007, N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4343400"/>
            <a:ext cx="695484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  <a:ea typeface="Gill Sans"/>
              </a:rPr>
              <a:t>T. Widemann </a:t>
            </a:r>
            <a:r>
              <a:rPr b="0" i="1" lang="en-US" sz="2500" spc="-1" strike="noStrike">
                <a:solidFill>
                  <a:srgbClr val="000000"/>
                </a:solidFill>
                <a:latin typeface="Georgia"/>
                <a:ea typeface="Gill Sans"/>
              </a:rPr>
              <a:t>et a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Gill Sans"/>
              </a:rPr>
              <a:t>LESIA, Observatoire de Paris-Meudon, F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e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luto and Triton experience extremes in insolation patterns due to changes in heliospheric distance (for Pluto) or sub-solar latitude (for both bodi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Triton, the only retrograde large moon in the Solar system, must have formed elsewhere and later been captured by Neptune (perhaps involving a collision with another moon or the capture of a binary bod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e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440" y="457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Why observing TNOs with stellar occul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Recent observation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of Pluto, Charon and Triton have successfully brought new constrains on density, upper limit of an atmosphere and seasonal variability of atmospheric pressure, in relation with surface ice compos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Stellar occultation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are presently the main observational tool to detect and study Pluto's tenuous atmosphere, composed of molecular nitrogen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) in vapor-pressure equilibrium with surface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i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e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837720" y="457200"/>
            <a:ext cx="76964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e estimate the stellar occultation technique could be currently expanded to half a dozen other large TN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e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09120" y="-36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eorgia"/>
              </a:rPr>
              <a:t>Physical parameters from stellar occultations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eorgia"/>
              </a:rPr>
              <a:t>•</a:t>
            </a:r>
            <a:r>
              <a:rPr b="1" lang="fr-FR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Georgia"/>
              </a:rPr>
              <a:t>single objects 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Dimension</a:t>
            </a:r>
            <a:r>
              <a:rPr b="0" i="1" lang="fr-FR" sz="2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comparison with optical and radiometric measurements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especially objects which dimensions are poorly constrained by thermal emission : 2003 EL 61, 2005 FY9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Upper limit for an atmo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of the order of a few nanobars, </a:t>
            </a:r>
            <a:r>
              <a:rPr b="0" i="1" lang="fr-FR" sz="2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i.e.</a:t>
            </a:r>
            <a:r>
              <a:rPr b="0" lang="fr-FR" sz="2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 3 orders of magnitude less than pressure levels presently measured on Pluto (2-5 microb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1" lang="fr-FR" sz="2000" spc="-1" strike="noStrike">
                <a:solidFill>
                  <a:srgbClr val="000000"/>
                </a:solidFill>
                <a:latin typeface="Georgia"/>
              </a:rPr>
              <a:t>multiple object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distance, orbital period of satellite                 mass of primar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independent constraint on size and </a:t>
            </a:r>
            <a:r>
              <a:rPr b="0" i="1" lang="fr-FR" sz="2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d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object dimension and atmosphere upper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4120" y="4952880"/>
            <a:ext cx="533160" cy="76320"/>
          </a:xfrm>
          <a:prstGeom prst="rightArrow">
            <a:avLst>
              <a:gd name="adj1" fmla="val 50000"/>
              <a:gd name="adj2" fmla="val 1746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e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228600"/>
            <a:ext cx="8915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eorgia"/>
              </a:rPr>
              <a:t>•</a:t>
            </a:r>
            <a:r>
              <a:rPr b="1" lang="fr-FR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Georgia"/>
              </a:rPr>
              <a:t>constraints on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eorgia"/>
              </a:rPr>
              <a:t>object origin, migration processes and dynamical evolution of outer sola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eorgia"/>
              </a:rPr>
              <a:t>e.g. </a:t>
            </a: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Triton, the only retrograde large moon in the Solar system, must have formed elsewhere and later been captured by Neptune (perhaps involving a collision with another moon or the capture of a binary bod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1" lang="fr-FR" sz="2400" spc="-1" strike="noStrike">
                <a:solidFill>
                  <a:srgbClr val="000000"/>
                </a:solidFill>
                <a:latin typeface="Georgia"/>
              </a:rPr>
              <a:t>constraints on albed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eorgia"/>
              </a:rPr>
              <a:t>surface composition, thermal inertia and emissivit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urface composition constrains the possibility of a tenuous atmosphere when object approaches perihel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eorgia"/>
              </a:rPr>
              <a:t>constraints on models as many unknown processes govern atmospheric forma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size typology,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haron 1210 km, Pluto 2290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880" y="5334120"/>
            <a:ext cx="8763120" cy="12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e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380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48320" y="-457200"/>
            <a:ext cx="4495680" cy="3259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228600"/>
            <a:ext cx="320040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3124080"/>
            <a:ext cx="8169120" cy="32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TNOs of diameter &gt; 500 km, magnitude m &lt;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argest known are mostly excited KBOs w/high inclination (44°, 17°, 29°, 28°, 12°, 21°, 8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Prediction constrained by current ephemeris uncertainty (CEU), 1-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fit of orbit to observations, and the increase rate of CEU starting at epoch of osculating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Selection of objects based on number of events with USNO catalog stars in 2007-2009 (USNO-A2 : stars m &lt; 20-2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-228600" y="-152280"/>
            <a:ext cx="487692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e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nquaoardisc" descr=""/>
          <p:cNvPicPr/>
          <p:nvPr/>
        </p:nvPicPr>
        <p:blipFill>
          <a:blip r:embed="rId1"/>
          <a:stretch/>
        </p:blipFill>
        <p:spPr>
          <a:xfrm>
            <a:off x="6291360" y="304920"/>
            <a:ext cx="2585880" cy="2666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04920" y="2971800"/>
            <a:ext cx="85341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e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2438280"/>
            <a:ext cx="8245440" cy="31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Conclusion/strategy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: to observe USNO candidate stars, astrometric fields yielding a typical accuracy of 20 mas, and establish prediction for shadow transit over large ground-based astronomical facil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8153640" cy="1323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352680" y="462924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e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828800" y="380880"/>
            <a:ext cx="7010280" cy="4600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15:46:16Z</dcterms:created>
  <dc:creator>Thomas Widemann</dc:creator>
  <dc:description/>
  <dc:language>en-US</dc:language>
  <cp:lastModifiedBy>Daniel</cp:lastModifiedBy>
  <cp:lastPrinted>2007-01-10T17:22:03Z</cp:lastPrinted>
  <dcterms:modified xsi:type="dcterms:W3CDTF">2007-01-16T15:42:52Z</dcterms:modified>
  <cp:revision>142</cp:revision>
  <dc:subject/>
  <dc:title>Présentation PowerPoint</dc:title>
</cp:coreProperties>
</file>