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025-E3ED-440B-855E-D293821B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171-C726-43D4-ACA2-718A73F0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C2B-2C7C-486D-B066-A24C6146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17E-6BE6-486E-8B17-2F94065A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0E6-6041-42F3-9791-206251C8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5A1-38E4-47B5-82A0-FE974A5A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93F-B5CC-45FA-AE5B-F65C53B6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6E1-C426-4197-ACE6-913DCD8F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62E-344F-476A-A9E1-B583FAFA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826-8E06-47ED-A8E1-F661D62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CE0-F9A0-4318-A137-05F34F91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693-85B7-4833-9DAC-BFEAFC03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01FD-4885-4F8E-B50C-09649CDF7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0948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RIGIN OF THE ORBITAL STRUCTURE  OF THE KUIPER BE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W MODEL &amp; OPEN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200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Morbidelli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OCA, Nice, F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86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ollisional way: doubtful (see Charnoz’s tal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773360"/>
            <a:ext cx="0" cy="2808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4581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1773360"/>
            <a:ext cx="0" cy="2808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4581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26920" y="2276640"/>
            <a:ext cx="1368720" cy="2304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795640" y="2997360"/>
            <a:ext cx="865080" cy="1512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003280" y="2636640"/>
            <a:ext cx="79236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og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4797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og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62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og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162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og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450864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4508640"/>
            <a:ext cx="720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372360" y="400536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052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Ero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1052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Non-Ero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THE `NICE’ MODEL OF SOLAR SYSTEM EVOLUTION: ORIGIN OF THE LATE HEAVY BOMBARD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838080"/>
            <a:ext cx="4419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Gomes et al., Nature,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plains al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(i) Current orbital architecture of the giant planets (Tsiganis et al., 20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648320" cy="464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038480" y="3429000"/>
            <a:ext cx="510552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486400"/>
            <a:ext cx="3962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(ii) Existence and properties of Jovian Trojans (Morbidelli et al., 20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3429000"/>
            <a:ext cx="0" cy="3048120"/>
          </a:xfrm>
          <a:prstGeom prst="line">
            <a:avLst/>
          </a:prstGeom>
          <a:ln w="3168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:2 MM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1666800"/>
            <a:ext cx="6838920" cy="519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The Kuiper belt can be filled up to the 1:2 MMR, and an extended SD is formed, when Neptune is eccent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219320"/>
            <a:ext cx="3865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Neptun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0.2, fixed@30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The Kuiper belt can be filled up to the 1:2 MMR, and an extended SD is formed, when Neptune is eccent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219320"/>
            <a:ext cx="3865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Neptun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0.2, fixed@30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5240" y="1666800"/>
            <a:ext cx="68389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73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We did a series of new simulations where we forced the planets to behave as in the `Nice’ model: Large e, damping, mi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We reproduce the (a,e) distribution fairly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533520"/>
            <a:ext cx="2210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77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53352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876240"/>
            <a:ext cx="8238960" cy="5981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5740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=30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286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=30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38098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LB95 stab. li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3886200"/>
            <a:ext cx="1143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LB95 stab. li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14880" y="-685800"/>
            <a:ext cx="5829120" cy="7543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533520"/>
            <a:ext cx="32004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We also reproduce the observed inclination distribution, although we have some deficit of large-i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KS test says distributions match at 50% confidenc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971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486400" y="2133720"/>
            <a:ext cx="53352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2133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model + bi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638320" y="1828800"/>
            <a:ext cx="685800" cy="4572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790560"/>
            <a:ext cx="8286480" cy="6067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We explain the correlations with the phys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943600" y="914040"/>
            <a:ext cx="0" cy="53341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67600" cy="5334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nd the orbital distribution inside the mean motion reson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1066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3:2 reso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8288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n total, ~30 objects out of simulated 30,000 are captured in the classical belt. Given that the initial mass of the planetesimal disk is ~35 Earth masses in the Nice model, we account for about 0.03-0.05 Earth masses in the Kuiper bel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962520"/>
            <a:ext cx="8153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About right, provided that collisional erosion was not important. This implies that the size distribution was similar to the current one, but scaled `up’ by a factor ~ 1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1,000 Plutos in the primordial planetesimal dis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049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MASS DEFIC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18680" cy="5335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8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Times New Roman"/>
              </a:rPr>
              <a:t>Coexistence of scattered disk, extended SD and Kuiper belt;              truncation of the Kuiper belt at the 1:2 resonance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56360"/>
            <a:ext cx="9142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rujillo et al. (2001): The Scattered Disk and the Kuiper belt constitute roughly equal popu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7391520" y="2057400"/>
            <a:ext cx="761760" cy="7632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1532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99"/>
                </a:solidFill>
                <a:latin typeface="Times New Roman"/>
              </a:rPr>
              <a:t>Se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32000" y="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Cold population: implanted or loc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949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55166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If local: easier to keep cold in i; easier to explain the difference in physical properties with the implanted, hot popul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BUT: mass deficit problem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89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 possible solution (specu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81000"/>
            <a:ext cx="9144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Maybe the size distribution was strongly dependent on the distance (not yet shown by coagulation model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Non-erosive (~1,000 Plutos) in the 15-30 AU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Erosive (D&lt;1,000km) in the 30-45 AU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`Failed’ (D&lt;undetectable) beyond 45 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V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uring the waiting time for the LHB(650My) collisional erosion of the disk beyond 30 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HB: dynamical disruption of the massive disk inside 30 AU and implantation of hot/resonant/scattered pop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he 40-45 AU population remains local, partially excited in e, and with low mas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30872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08720" y="220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1915920"/>
            <a:ext cx="144720" cy="144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308720" y="234900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308720" y="2924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08720" y="285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342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7308360" y="2491920"/>
            <a:ext cx="287640" cy="360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308360" y="3213000"/>
            <a:ext cx="14292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308360" y="1844280"/>
            <a:ext cx="14292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3360" cy="533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Coexistence of resonant and classical population;                       weird (a,e) distribution of the classical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ujillo et al. (2001): The resonant population constitutes ~10% of the classical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335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Coexistence of `hot’ and `cold’ classical populations (Brown, 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6096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847880"/>
            <a:ext cx="7010280" cy="501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PHYSICAL DIFFERENCES BETWEEN THE HOT AND COLD POPULATIONS OF THE CLASSICAL BELT:                                I) THE COLOR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648320"/>
            <a:ext cx="609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181480"/>
            <a:ext cx="4038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ujillo and Brown (2002), Tegler and Romanishin (2000), Doressoundiram et al. (20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PHYSICAL DIFFERENCES BETWEEN THE HOT AND COLD POPULATIONS OF THE CLASSICAL BELT:                                II) THE SIZ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905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vison and Stern (20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481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of the biggest objects (Pluto, Quaoar, Ixion, Varuna, Chaos) are in the HOT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199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bodies with H&lt;4 have i&gt;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have 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9.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6019920" cy="441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62920" y="1447920"/>
            <a:ext cx="0" cy="38862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41920" y="1066680"/>
            <a:ext cx="4402080" cy="5791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MASS DEFIC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 Earth masses are expected to exist in the primordial 30-50 AU region because o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464832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ffffff"/>
              </a:buClr>
              <a:buFont typeface="Times New Roman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rapolation of the surface density of solids incorporated in the giant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ffffff"/>
              </a:buClr>
              <a:buFont typeface="Times New Roman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cessity to grow the KBOs in a reasonable tim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Stern, 1996; Stern and Colwell, 1999; Kenyon and Luu 1998, 1999; Weidenshilling,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019920"/>
            <a:ext cx="4648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current mass is estimated to be 0.01-0.1 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he mass depletion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762120"/>
            <a:ext cx="792468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4479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at depleted the mass of the cold classical population in the 40-50 AU reg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wo possible way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2767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al way, by exciting the eccentricity of most of the objects up to Neptune-crossing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isional grinding and evacuation of dust by radiation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553440" cy="524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Dynamical way: impossible! Neptune would migrate too f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9916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Dynamical depletion and Neptune migration: Gomes, Morbidelli, Levison (20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25 Earth mass disk in 10-50 AU and one Earth mass embry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3434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Times New Roman"/>
              </a:rPr>
              <a:t>1M</a:t>
            </a:r>
            <a:r>
              <a:rPr b="1" lang="fr-FR" sz="2400" spc="-1" strike="noStrike" baseline="-25000">
                <a:solidFill>
                  <a:srgbClr val="0099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4:27:02Z</dcterms:created>
  <dc:creator>morby</dc:creator>
  <dc:description/>
  <dc:language>en-US</dc:language>
  <cp:lastModifiedBy>Alessandro MORBIDELLI</cp:lastModifiedBy>
  <dcterms:modified xsi:type="dcterms:W3CDTF">2007-01-05T10:35:07Z</dcterms:modified>
  <cp:revision>28</cp:revision>
  <dc:subject/>
  <dc:title>Présentation PowerPoint</dc:title>
</cp:coreProperties>
</file>